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28480" y="365040"/>
            <a:ext cx="80820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28480" y="365040"/>
            <a:ext cx="80820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28480" y="365040"/>
            <a:ext cx="80820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28480" y="365040"/>
            <a:ext cx="80820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8480" y="365040"/>
            <a:ext cx="80820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8480" y="365040"/>
            <a:ext cx="80820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28480" y="365040"/>
            <a:ext cx="80820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28480" y="365040"/>
            <a:ext cx="808200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28480" y="365040"/>
            <a:ext cx="80820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28480" y="365040"/>
            <a:ext cx="80820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28480" y="365040"/>
            <a:ext cx="80820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>
            <a:hlinkClick r:id="" action="ppaction://hlinkshowjump?jump=firstslide"/>
          </p:cNvPr>
          <p:cNvSpPr/>
          <p:nvPr/>
        </p:nvSpPr>
        <p:spPr>
          <a:xfrm>
            <a:off x="5815080" y="6083280"/>
            <a:ext cx="1790640" cy="419040"/>
          </a:xfrm>
          <a:custGeom>
            <a:avLst/>
            <a:gdLst>
              <a:gd name="textAreaLeft" fmla="*/ 27000 w 1790640"/>
              <a:gd name="textAreaRight" fmla="*/ 1763640 w 1790640"/>
              <a:gd name="textAreaTop" fmla="*/ 27000 h 419040"/>
              <a:gd name="textAreaBottom" fmla="*/ 392040 h 419040"/>
            </a:gdLst>
            <a:ahLst/>
            <a:rect l="textAreaLeft" t="textAreaTop" r="textAreaRight" b="textAreaBottom"/>
            <a:pathLst>
              <a:path w="92240" h="21600">
                <a:moveTo>
                  <a:pt x="0" y="0"/>
                </a:moveTo>
                <a:lnTo>
                  <a:pt x="92240" y="0"/>
                </a:lnTo>
                <a:lnTo>
                  <a:pt x="92240" y="21600"/>
                </a:lnTo>
                <a:lnTo>
                  <a:pt x="0" y="21600"/>
                </a:lnTo>
                <a:close/>
              </a:path>
              <a:path fill="lightenLess" w="92240" h="21600">
                <a:moveTo>
                  <a:pt x="0" y="0"/>
                </a:moveTo>
                <a:lnTo>
                  <a:pt x="92240" y="0"/>
                </a:lnTo>
                <a:lnTo>
                  <a:pt x="90840" y="1400"/>
                </a:lnTo>
                <a:lnTo>
                  <a:pt x="1400" y="1400"/>
                </a:lnTo>
                <a:close/>
              </a:path>
              <a:path fill="darken" w="92240" h="21600">
                <a:moveTo>
                  <a:pt x="92240" y="0"/>
                </a:moveTo>
                <a:lnTo>
                  <a:pt x="92240" y="21600"/>
                </a:lnTo>
                <a:lnTo>
                  <a:pt x="90840" y="20200"/>
                </a:lnTo>
                <a:lnTo>
                  <a:pt x="90840" y="1400"/>
                </a:lnTo>
                <a:close/>
              </a:path>
              <a:path fill="darkenLess" w="92240" h="21600">
                <a:moveTo>
                  <a:pt x="92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840" y="20200"/>
                </a:lnTo>
                <a:close/>
              </a:path>
              <a:path fill="lighten" w="92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">
            <a:hlinkClick r:id="" action="ppaction://hlinkshowjump?jump=nextslide"/>
          </p:cNvPr>
          <p:cNvSpPr/>
          <p:nvPr/>
        </p:nvSpPr>
        <p:spPr>
          <a:xfrm>
            <a:off x="4557600" y="6095880"/>
            <a:ext cx="1244880" cy="406440"/>
          </a:xfrm>
          <a:custGeom>
            <a:avLst/>
            <a:gdLst>
              <a:gd name="textAreaLeft" fmla="*/ 26280 w 1244880"/>
              <a:gd name="textAreaRight" fmla="*/ 1218600 w 124488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66119" h="21600">
                <a:moveTo>
                  <a:pt x="0" y="0"/>
                </a:moveTo>
                <a:lnTo>
                  <a:pt x="66119" y="0"/>
                </a:lnTo>
                <a:lnTo>
                  <a:pt x="66119" y="21600"/>
                </a:lnTo>
                <a:lnTo>
                  <a:pt x="0" y="21600"/>
                </a:lnTo>
                <a:close/>
              </a:path>
              <a:path fill="lightenLess" w="66119" h="21600">
                <a:moveTo>
                  <a:pt x="0" y="0"/>
                </a:moveTo>
                <a:lnTo>
                  <a:pt x="66119" y="0"/>
                </a:lnTo>
                <a:lnTo>
                  <a:pt x="64719" y="1400"/>
                </a:lnTo>
                <a:lnTo>
                  <a:pt x="1400" y="1400"/>
                </a:lnTo>
                <a:close/>
              </a:path>
              <a:path fill="darken" w="66119" h="21600">
                <a:moveTo>
                  <a:pt x="66119" y="0"/>
                </a:moveTo>
                <a:lnTo>
                  <a:pt x="66119" y="21600"/>
                </a:lnTo>
                <a:lnTo>
                  <a:pt x="64719" y="20200"/>
                </a:lnTo>
                <a:lnTo>
                  <a:pt x="64719" y="1400"/>
                </a:lnTo>
                <a:close/>
              </a:path>
              <a:path fill="darkenLess" w="66119" h="21600">
                <a:moveTo>
                  <a:pt x="6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19" y="20200"/>
                </a:lnTo>
                <a:close/>
              </a:path>
              <a:path fill="lighten" w="6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>
            <a:hlinkClick r:id="" action="ppaction://hlinkshowjump?jump=endshow"/>
          </p:cNvPr>
          <p:cNvSpPr/>
          <p:nvPr/>
        </p:nvSpPr>
        <p:spPr>
          <a:xfrm>
            <a:off x="7683480" y="6083280"/>
            <a:ext cx="1257480" cy="432000"/>
          </a:xfrm>
          <a:custGeom>
            <a:avLst/>
            <a:gdLst>
              <a:gd name="textAreaLeft" fmla="*/ 27720 w 1257480"/>
              <a:gd name="textAreaRight" fmla="*/ 1229760 w 12574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2840" h="21600">
                <a:moveTo>
                  <a:pt x="0" y="0"/>
                </a:moveTo>
                <a:lnTo>
                  <a:pt x="62840" y="0"/>
                </a:lnTo>
                <a:lnTo>
                  <a:pt x="62840" y="21600"/>
                </a:lnTo>
                <a:lnTo>
                  <a:pt x="0" y="21600"/>
                </a:lnTo>
                <a:close/>
              </a:path>
              <a:path fill="lightenLess" w="62840" h="21600">
                <a:moveTo>
                  <a:pt x="0" y="0"/>
                </a:moveTo>
                <a:lnTo>
                  <a:pt x="62840" y="0"/>
                </a:lnTo>
                <a:lnTo>
                  <a:pt x="61440" y="1400"/>
                </a:lnTo>
                <a:lnTo>
                  <a:pt x="1400" y="1400"/>
                </a:lnTo>
                <a:close/>
              </a:path>
              <a:path fill="darken" w="62840" h="21600">
                <a:moveTo>
                  <a:pt x="62840" y="0"/>
                </a:moveTo>
                <a:lnTo>
                  <a:pt x="62840" y="21600"/>
                </a:lnTo>
                <a:lnTo>
                  <a:pt x="61440" y="20200"/>
                </a:lnTo>
                <a:lnTo>
                  <a:pt x="61440" y="1400"/>
                </a:lnTo>
                <a:close/>
              </a:path>
              <a:path fill="darkenLess" w="62840" h="21600">
                <a:moveTo>
                  <a:pt x="628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440" y="20200"/>
                </a:lnTo>
                <a:close/>
              </a:path>
              <a:path fill="lighten" w="628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28480" y="365040"/>
            <a:ext cx="80820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3262320" y="6070680"/>
            <a:ext cx="1244520" cy="406440"/>
          </a:xfrm>
          <a:custGeom>
            <a:avLst/>
            <a:gdLst>
              <a:gd name="textAreaLeft" fmla="*/ 26280 w 1244520"/>
              <a:gd name="textAreaRight" fmla="*/ 1218240 w 124452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66100" h="21600">
                <a:moveTo>
                  <a:pt x="0" y="0"/>
                </a:moveTo>
                <a:lnTo>
                  <a:pt x="66100" y="0"/>
                </a:lnTo>
                <a:lnTo>
                  <a:pt x="66100" y="21600"/>
                </a:lnTo>
                <a:lnTo>
                  <a:pt x="0" y="21600"/>
                </a:lnTo>
                <a:close/>
              </a:path>
              <a:path fill="lightenLess" w="66100" h="21600">
                <a:moveTo>
                  <a:pt x="0" y="0"/>
                </a:moveTo>
                <a:lnTo>
                  <a:pt x="66100" y="0"/>
                </a:lnTo>
                <a:lnTo>
                  <a:pt x="64700" y="1400"/>
                </a:lnTo>
                <a:lnTo>
                  <a:pt x="1400" y="1400"/>
                </a:lnTo>
                <a:close/>
              </a:path>
              <a:path fill="darken" w="66100" h="21600">
                <a:moveTo>
                  <a:pt x="66100" y="0"/>
                </a:moveTo>
                <a:lnTo>
                  <a:pt x="66100" y="21600"/>
                </a:lnTo>
                <a:lnTo>
                  <a:pt x="64700" y="20200"/>
                </a:lnTo>
                <a:lnTo>
                  <a:pt x="64700" y="1400"/>
                </a:lnTo>
                <a:close/>
              </a:path>
              <a:path fill="darkenLess" w="66100" h="21600">
                <a:moveTo>
                  <a:pt x="661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00" y="20200"/>
                </a:lnTo>
                <a:close/>
              </a:path>
              <a:path fill="lighten" w="661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8113680" y="6561000"/>
            <a:ext cx="103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8440" y="365040"/>
            <a:ext cx="861552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Verdana"/>
              </a:rPr>
              <a:t>Adventures of Huckleberry Finn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Verdana"/>
              </a:rPr>
              <a:t>Mark Twain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1986120" y="2975040"/>
            <a:ext cx="5095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Discussion Star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8069400" y="6647040"/>
            <a:ext cx="1074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14520" y="1015920"/>
            <a:ext cx="76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fter a miserable time with his father, Huck escap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28480" y="365040"/>
            <a:ext cx="80820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Adventures of Huckleberry Finn: Introduction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2951280" y="1919160"/>
            <a:ext cx="544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hile he is running away, he meets Jim—a slave of Widow Douglas’s sister—who has escaped to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49160" y="1982880"/>
            <a:ext cx="1901880" cy="2852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675400" y="3444840"/>
            <a:ext cx="1654200" cy="2198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8480" y="365040"/>
            <a:ext cx="80820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Adventures of Huckleberry Finn: Introduction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476280" y="938160"/>
            <a:ext cx="831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two set off together on a raft on the Mississippi River—and on one of the most famous journeys in American literatur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279360" y="3511440"/>
            <a:ext cx="572940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ill Huck be able to find freedom—or will civilization catch up to him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7612200" y="5987880"/>
            <a:ext cx="13507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272880" y="4915080"/>
            <a:ext cx="59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hould Huck help Jim or send him back to slaver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270000" y="2398680"/>
            <a:ext cx="509112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hat adventures will they find on the rive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270480" y="2413080"/>
            <a:ext cx="2313000" cy="2867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28480" y="365040"/>
            <a:ext cx="80820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Adventures of Huckleberry Finn: Background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657360" y="1257480"/>
            <a:ext cx="3859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Mark Twain, the pen name of Samuel Clemens, is one of the United States’ best-known autho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612720" y="3843360"/>
            <a:ext cx="571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n novels such as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Adventures of Huckleberry Finn,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Twain vividly depicts the lives and dialects of southern people from long ag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6480" y="288432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757840" y="1123920"/>
            <a:ext cx="1673280" cy="2509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28480" y="365040"/>
            <a:ext cx="80820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Adventures of Huckleberry Finn: Background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592200" y="1465200"/>
            <a:ext cx="697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wain also uses humor and satire both to entertain and to comment on socie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01760" y="2759040"/>
            <a:ext cx="4451400" cy="2962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28480" y="365040"/>
            <a:ext cx="80820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Adventures of Huckleberry Finn: Background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590400" y="1380960"/>
            <a:ext cx="465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Adventures of Huckleberry Finn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takes place in the years before the Civil Wa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492120" y="4676760"/>
            <a:ext cx="465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tealing a hunted slave was seen as a great crime—and morally wro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565200" y="3003480"/>
            <a:ext cx="407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n the South at that time, a slave was considered proper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568840" y="2033640"/>
            <a:ext cx="2997360" cy="2303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28480" y="365040"/>
            <a:ext cx="80820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Adventures of Huckleberry Finn: Background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590400" y="1380960"/>
            <a:ext cx="465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hen Twain wrote the novel, in the 1880s, the Civil War had been fought and the slaves had been fre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657360" y="3666960"/>
            <a:ext cx="465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However, conditions for African Americans were still very difficult in many parts of the United Sta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916520" y="265284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511960" y="2376360"/>
            <a:ext cx="3108240" cy="2076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28480" y="365040"/>
            <a:ext cx="80820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Adventures of Huckleberry Finn: Background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657360" y="1257480"/>
            <a:ext cx="69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hen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Adventures of Huckleberry Finn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was published, critics hated the novel, accusing it of “coarse fun” and “gutter realism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576360" y="2744640"/>
            <a:ext cx="4497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Louisa May Alcott, author of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Little Women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, wrote “If Mr. Clemens cannot think of something better to tell our pure-minded lads and lasses, he had best stop writing for them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918480" y="217332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492880" y="2751120"/>
            <a:ext cx="2412720" cy="2735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28480" y="365040"/>
            <a:ext cx="80820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Adventures of Huckleberry Finn: Background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657360" y="1257480"/>
            <a:ext cx="697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wain welcomed the controversy, however, hoping that it would bring more sa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736560" y="4778280"/>
            <a:ext cx="697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book sold fifty thousand copies in the first few month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809880" y="2273400"/>
            <a:ext cx="1524240" cy="2311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8480" y="365040"/>
            <a:ext cx="80820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Adventures of Huckleberry Finn: Background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657360" y="1257480"/>
            <a:ext cx="697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oday,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 Adventures of Huckleberry Finn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remains controversi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679320" y="2571840"/>
            <a:ext cx="3625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lthough it’s accepted as a classic of American literature, some critics still accuse it of being racist, and its use in schools has been challeng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13120" y="187020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108400" y="2641680"/>
            <a:ext cx="2678400" cy="1784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28480" y="365040"/>
            <a:ext cx="80820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Adventures of Huckleberry Finn: Background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41520" y="1474920"/>
            <a:ext cx="69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wain does use terms now considered racis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647640" y="2556000"/>
            <a:ext cx="47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However, he creates a powerful argument against slavery as wel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96960" y="4160880"/>
            <a:ext cx="697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lso, in a way perhaps surprising for the time, he allows Jim to speak for himself, revealing truths that even Twain may have found uncomfort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927080" y="199872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465360" y="3551400"/>
            <a:ext cx="133560" cy="88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5977080" y="2138400"/>
            <a:ext cx="1352520" cy="1798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8480" y="365040"/>
            <a:ext cx="80820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Adventures of Huckleberry Finn</a:t>
            </a:r>
            <a:br>
              <a:rPr sz="1900"/>
            </a:br>
            <a:r>
              <a:rPr b="1" lang="en-US" sz="1900" spc="-1" strike="noStrike">
                <a:solidFill>
                  <a:srgbClr val="ffcc00"/>
                </a:solidFill>
                <a:latin typeface="Verdana"/>
              </a:rPr>
              <a:t>Mark Twain</a:t>
            </a:r>
            <a:endParaRPr b="1" lang="en-US" sz="19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mages provided by Index Open, Jupiter Images, and Shutterstoc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7286760" y="6138720"/>
            <a:ext cx="185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28120" y="365040"/>
            <a:ext cx="80442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Adventures of Huckleberry Finn: 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Discussion Starter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440000"/>
            <a:ext cx="8076960" cy="438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Discu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Many books that were written in the past contain ideas about race, gender, or class that we now view as outdated or offensiv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How can we approach these book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hat can we learn from them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Do you think there are some audiences for which they would be inappropriate? Wh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endshow"/>
          </p:cNvPr>
          <p:cNvSpPr/>
          <p:nvPr/>
        </p:nvSpPr>
        <p:spPr>
          <a:xfrm>
            <a:off x="7543800" y="594360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">
            <a:hlinkClick r:id="" action="ppaction://hlinkshowjump?jump=endshow"/>
          </p:cNvPr>
          <p:cNvSpPr/>
          <p:nvPr/>
        </p:nvSpPr>
        <p:spPr>
          <a:xfrm>
            <a:off x="6095880" y="594360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417240"/>
            <a:ext cx="9067680" cy="102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Verdana"/>
              </a:rPr>
              <a:t>Adventures of Huckleberry Finn</a:t>
            </a:r>
            <a:br>
              <a:rPr sz="3600"/>
            </a:br>
            <a:r>
              <a:rPr b="1" lang="en-US" sz="2500" spc="-1" strike="noStrike">
                <a:solidFill>
                  <a:srgbClr val="ffcc00"/>
                </a:solidFill>
                <a:latin typeface="Verdana"/>
              </a:rPr>
              <a:t>Mark Twain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347920" y="1754280"/>
            <a:ext cx="4451400" cy="3338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41240" y="3187800"/>
            <a:ext cx="7496280" cy="2457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95360" y="15937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hat do you do when you’re torn between what people want for you—or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from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you—and what you want for yourself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28480" y="365040"/>
            <a:ext cx="80820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Adventures of Huckleberry Finn: Introduction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8029440" y="15350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8480" y="365040"/>
            <a:ext cx="80820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Adventures of Huckleberry Finn: Introduction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474840" y="10540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Huckleberry Finn lives in Missouri before the Civil War, near the Mississippi Riv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"/>
          <p:cNvSpPr/>
          <p:nvPr/>
        </p:nvSpPr>
        <p:spPr>
          <a:xfrm>
            <a:off x="4206960" y="2293920"/>
            <a:ext cx="436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Huck is young and uneducated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4238640" y="3467160"/>
            <a:ext cx="330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ith an alcoholic and unreliable father, he has grown up mostly on his ow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991120" y="159228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004760" y="1936800"/>
            <a:ext cx="2330640" cy="3495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898880" y="1727280"/>
            <a:ext cx="2340000" cy="2651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7360" y="3459240"/>
            <a:ext cx="376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1004760" y="3440160"/>
            <a:ext cx="2781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781280"/>
            <a:ext cx="393876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Not long before the novel begins, however, Huck has been taken to live with the Widow Douglas and her sister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87520" y="498240"/>
            <a:ext cx="804384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Adventures of Huckleberry Finn: Introduction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687240" y="4389480"/>
            <a:ext cx="375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But Huck thinks life with the two sisters is too civiliz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467240" y="340524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5861160" y="3417840"/>
            <a:ext cx="2879640" cy="1924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8480" y="365040"/>
            <a:ext cx="80820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Adventures of Huckleberry Finn: Introduction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2" name=""/>
          <p:cNvSpPr/>
          <p:nvPr/>
        </p:nvSpPr>
        <p:spPr>
          <a:xfrm>
            <a:off x="603360" y="1508040"/>
            <a:ext cx="37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He prefers living in the open and having adventures with his friend Tom Sawyer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51200" y="1763640"/>
            <a:ext cx="4023000" cy="2687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28480" y="365040"/>
            <a:ext cx="80820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Adventures of Huckleberry Finn: Introduction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2690640"/>
            <a:ext cx="3724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On one of their adventures, the two boys found a lot of money in a cave (described in the novel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The Adventures of Tom Sawyer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44000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Huck and Tom like to plan great adventures and play pranks on peopl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321080" y="207180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570560" y="2741760"/>
            <a:ext cx="3592440" cy="2393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46240" y="2997360"/>
            <a:ext cx="4479840" cy="29113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28480" y="365040"/>
            <a:ext cx="80820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Adventures of Huckleberry Finn: Introduction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4152960" y="3308400"/>
            <a:ext cx="437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ap wants Huck’s money—and kidnaps him to get i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4400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One day, Huck’s father, Pap, returns to tow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211480" y="2192400"/>
            <a:ext cx="1855800" cy="1585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bby Shubert</cp:lastModifiedBy>
  <dcterms:modified xsi:type="dcterms:W3CDTF">2011-11-28T03:57:39Z</dcterms:modified>
  <cp:revision>124</cp:revision>
  <dc:subject/>
  <dc:title>Adventures of Huckleberry Finn Mark Twain</dc:title>
</cp:coreProperties>
</file>